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2231-7276-41FA-8E88-7BD9E3E2A1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ED91-F915-4C84-A28D-1E41F0EAF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1DDA-EB5D-4E1E-973E-6EBE9DB0B7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BF6F-A708-424A-AD23-A31579608B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F129-7898-4035-8EB0-F76CE1DF2C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D047-DFC0-4E8E-8876-A3A2573FD7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BD9F-89B6-4C52-9A66-6011B0DBF8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1749-1F93-44A0-8AF4-EEBB3F7F60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304B-0728-4396-9067-A07D6CF5D9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E794-0C7C-4434-AF3F-C53796D73D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1E54-81B3-4B96-B35C-54764AE4CA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EC65-52EA-464E-97E6-5B2C218E2C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447C-8DD9-4B43-B893-5250664C1E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86D3-8C36-4DFE-BAF1-80CA671D64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51A0-AFFD-4B2B-8AD9-0FD77E46CF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0A1F-700F-499F-9228-2AC00FCEC5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D355-F58C-4C96-BB47-14CB32528C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5092-40FC-4FAC-B5CF-45879A2694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CB43-9FA4-49E9-A8C3-3CBA86441B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8C35-4137-44EC-8F74-753B2D4502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8FAD-B5E3-4000-95E8-F99B00DBB7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adjectifs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Documents and Settings\Michael\Local Settings\Temporary Internet Files\Content.IE5\2303URME\MC900363570[1].wmf"/>
          <p:cNvPicPr/>
          <p:nvPr/>
        </p:nvPicPr>
        <p:blipFill>
          <a:blip r:embed="rId1"/>
          <a:stretch/>
        </p:blipFill>
        <p:spPr>
          <a:xfrm>
            <a:off x="228600" y="3124080"/>
            <a:ext cx="2717640" cy="304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Michael\Local Settings\Temporary Internet Files\Content.IE5\T3QP2G2F\MC900022823[1].wmf"/>
          <p:cNvPicPr/>
          <p:nvPr/>
        </p:nvPicPr>
        <p:blipFill>
          <a:blip r:embed="rId2"/>
          <a:stretch/>
        </p:blipFill>
        <p:spPr>
          <a:xfrm>
            <a:off x="5867280" y="4267080"/>
            <a:ext cx="3048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45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52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Pratiqu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Contex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: M. &amp; Mme. Diffère sont un couple bizarre. Mme. Diffère est l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opposée de son mari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Tâche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dites comment est M. Diffère basé sur la description de sa femm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3429000" y="4317840"/>
            <a:ext cx="3465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dèl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di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diligen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paresseus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s adjectifs sont utilisés (used) pour décrire quelqu’un ou quelque chos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x. grand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ign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intelligen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433520" y="1447920"/>
            <a:ext cx="7480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2133720" y="2421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e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5638680" y="2424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2133720" y="2406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5653080" y="23954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2057400" y="2419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551988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2133720" y="2421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5410080" y="2424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v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1676520" y="24192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ll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5715000" y="24051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ê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212256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531648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ch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182880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éné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557676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égoï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8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cc99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0"/>
          <a:ext cx="9144000" cy="6931080"/>
        </p:xfrm>
        <a:graphic>
          <a:graphicData uri="http://schemas.openxmlformats.org/drawingml/2006/table">
            <a:tbl>
              <a:tblPr/>
              <a:tblGrid>
                <a:gridCol w="2338560"/>
                <a:gridCol w="2306520"/>
                <a:gridCol w="1514520"/>
                <a:gridCol w="1514520"/>
                <a:gridCol w="1469880"/>
              </a:tblGrid>
              <a:tr h="6224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Les Adjectifs - BAN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C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Vo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uv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uv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32"/>
          <p:cNvSpPr/>
          <p:nvPr/>
        </p:nvSpPr>
        <p:spPr>
          <a:xfrm>
            <a:off x="2438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33"/>
          <p:cNvSpPr/>
          <p:nvPr/>
        </p:nvSpPr>
        <p:spPr>
          <a:xfrm>
            <a:off x="434340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34"/>
          <p:cNvSpPr/>
          <p:nvPr/>
        </p:nvSpPr>
        <p:spPr>
          <a:xfrm>
            <a:off x="5867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35"/>
          <p:cNvSpPr/>
          <p:nvPr/>
        </p:nvSpPr>
        <p:spPr>
          <a:xfrm>
            <a:off x="7315200" y="1889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36"/>
          <p:cNvSpPr/>
          <p:nvPr/>
        </p:nvSpPr>
        <p:spPr>
          <a:xfrm>
            <a:off x="2438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37"/>
          <p:cNvSpPr/>
          <p:nvPr/>
        </p:nvSpPr>
        <p:spPr>
          <a:xfrm>
            <a:off x="434340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8"/>
          <p:cNvSpPr/>
          <p:nvPr/>
        </p:nvSpPr>
        <p:spPr>
          <a:xfrm>
            <a:off x="5867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39"/>
          <p:cNvSpPr/>
          <p:nvPr/>
        </p:nvSpPr>
        <p:spPr>
          <a:xfrm>
            <a:off x="7391520" y="24987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40"/>
          <p:cNvSpPr/>
          <p:nvPr/>
        </p:nvSpPr>
        <p:spPr>
          <a:xfrm>
            <a:off x="2438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41"/>
          <p:cNvSpPr/>
          <p:nvPr/>
        </p:nvSpPr>
        <p:spPr>
          <a:xfrm>
            <a:off x="434340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42"/>
          <p:cNvSpPr/>
          <p:nvPr/>
        </p:nvSpPr>
        <p:spPr>
          <a:xfrm>
            <a:off x="5867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43"/>
          <p:cNvSpPr/>
          <p:nvPr/>
        </p:nvSpPr>
        <p:spPr>
          <a:xfrm>
            <a:off x="7391520" y="3048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44"/>
          <p:cNvSpPr/>
          <p:nvPr/>
        </p:nvSpPr>
        <p:spPr>
          <a:xfrm>
            <a:off x="2438280" y="3641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45"/>
          <p:cNvSpPr/>
          <p:nvPr/>
        </p:nvSpPr>
        <p:spPr>
          <a:xfrm>
            <a:off x="434340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46"/>
          <p:cNvSpPr/>
          <p:nvPr/>
        </p:nvSpPr>
        <p:spPr>
          <a:xfrm>
            <a:off x="586728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47"/>
          <p:cNvSpPr/>
          <p:nvPr/>
        </p:nvSpPr>
        <p:spPr>
          <a:xfrm>
            <a:off x="73915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48"/>
          <p:cNvSpPr/>
          <p:nvPr/>
        </p:nvSpPr>
        <p:spPr>
          <a:xfrm>
            <a:off x="2438280" y="4251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49"/>
          <p:cNvSpPr/>
          <p:nvPr/>
        </p:nvSpPr>
        <p:spPr>
          <a:xfrm>
            <a:off x="434340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50"/>
          <p:cNvSpPr/>
          <p:nvPr/>
        </p:nvSpPr>
        <p:spPr>
          <a:xfrm>
            <a:off x="586728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51"/>
          <p:cNvSpPr/>
          <p:nvPr/>
        </p:nvSpPr>
        <p:spPr>
          <a:xfrm>
            <a:off x="7391520" y="42670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52"/>
          <p:cNvSpPr/>
          <p:nvPr/>
        </p:nvSpPr>
        <p:spPr>
          <a:xfrm>
            <a:off x="2438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53"/>
          <p:cNvSpPr/>
          <p:nvPr/>
        </p:nvSpPr>
        <p:spPr>
          <a:xfrm>
            <a:off x="434340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54"/>
          <p:cNvSpPr/>
          <p:nvPr/>
        </p:nvSpPr>
        <p:spPr>
          <a:xfrm>
            <a:off x="5867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55"/>
          <p:cNvSpPr/>
          <p:nvPr/>
        </p:nvSpPr>
        <p:spPr>
          <a:xfrm>
            <a:off x="7391520" y="4800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56"/>
          <p:cNvSpPr/>
          <p:nvPr/>
        </p:nvSpPr>
        <p:spPr>
          <a:xfrm>
            <a:off x="2438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57"/>
          <p:cNvSpPr/>
          <p:nvPr/>
        </p:nvSpPr>
        <p:spPr>
          <a:xfrm>
            <a:off x="434340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58"/>
          <p:cNvSpPr/>
          <p:nvPr/>
        </p:nvSpPr>
        <p:spPr>
          <a:xfrm>
            <a:off x="5867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59"/>
          <p:cNvSpPr/>
          <p:nvPr/>
        </p:nvSpPr>
        <p:spPr>
          <a:xfrm>
            <a:off x="7391520" y="5394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60"/>
          <p:cNvSpPr/>
          <p:nvPr/>
        </p:nvSpPr>
        <p:spPr>
          <a:xfrm>
            <a:off x="2438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61"/>
          <p:cNvSpPr/>
          <p:nvPr/>
        </p:nvSpPr>
        <p:spPr>
          <a:xfrm>
            <a:off x="434340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2"/>
          <p:cNvSpPr/>
          <p:nvPr/>
        </p:nvSpPr>
        <p:spPr>
          <a:xfrm>
            <a:off x="5867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3"/>
          <p:cNvSpPr/>
          <p:nvPr/>
        </p:nvSpPr>
        <p:spPr>
          <a:xfrm>
            <a:off x="7391520" y="5943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4"/>
          <p:cNvSpPr/>
          <p:nvPr/>
        </p:nvSpPr>
        <p:spPr>
          <a:xfrm>
            <a:off x="2438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65"/>
          <p:cNvSpPr/>
          <p:nvPr/>
        </p:nvSpPr>
        <p:spPr>
          <a:xfrm>
            <a:off x="434340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66"/>
          <p:cNvSpPr/>
          <p:nvPr/>
        </p:nvSpPr>
        <p:spPr>
          <a:xfrm>
            <a:off x="5867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67"/>
          <p:cNvSpPr/>
          <p:nvPr/>
        </p:nvSpPr>
        <p:spPr>
          <a:xfrm>
            <a:off x="7391520" y="6461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ais pour tous les adjectifs, il faut les accorder en genre et nombr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Genre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Times New Roman"/>
              </a:rPr>
              <a:t>mascul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cc"/>
                </a:solidFill>
                <a:latin typeface="Times New Roman"/>
              </a:rPr>
              <a:t>fémin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Nombr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singulier (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pluriel (x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Direction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Demandez à votre partenaire les questions suivantes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Votre partenaire doit répondre en utilisant l’adjectif indiqué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ATTENTION: QUELQUES ADJECTIFS DOIVENT PRÉCÉDÉS L’OBJET QU’ILS MODIFIENT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2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324480" y="3043080"/>
            <a:ext cx="265284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5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019920" y="2757600"/>
            <a:ext cx="29653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8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5386320" y="3124080"/>
            <a:ext cx="344160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1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5867280" y="3178080"/>
            <a:ext cx="327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4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3276720" y="2895480"/>
            <a:ext cx="30621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des(f) 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7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6553080" y="3124080"/>
            <a:ext cx="18608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0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6019920" y="2995560"/>
            <a:ext cx="28652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3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248520" y="3174840"/>
            <a:ext cx="26794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On peut l’organiser comme ceci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 vieux burea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705720" y="4648320"/>
            <a:ext cx="205740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304920" y="3809880"/>
            <a:ext cx="8534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e nouvelle chaîne stéré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781680" y="4510080"/>
            <a:ext cx="21733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e belle lamp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6477120" y="4648320"/>
            <a:ext cx="2385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 grand tap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6248520" y="4800600"/>
            <a:ext cx="22003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e vieille armo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6735600" y="228600"/>
            <a:ext cx="24084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des 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de jolies étagèr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7238880" y="1349280"/>
            <a:ext cx="15559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304920" y="3733920"/>
            <a:ext cx="8534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e nouvelle commo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7010280" y="4495680"/>
            <a:ext cx="17989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04920" y="365760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 grand l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629400" y="4329000"/>
            <a:ext cx="18414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0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7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24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1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8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09-04T00:16:15Z</dcterms:modified>
  <cp:revision>93</cp:revision>
  <dc:subject/>
  <dc:title>Allez, viens! – Level 2</dc:title>
</cp:coreProperties>
</file>